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81C-A400-4967-9AFC-0646CEA3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192-6CE7-4382-AF7C-45D0714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800-974F-4BE0-9CE3-F2168E66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AB7-4CFF-4E41-9B91-7D457F45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885-D1AA-457C-92F5-D4DFA54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F07-8735-4C64-9F7A-F05AD61A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AA8-1C35-4532-9E47-48C02D5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353-7922-42DD-AAFF-14C6AB8A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197-171D-4750-B945-080FABBC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ECC-F985-4F26-8B09-C0FD8D84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715-DDF9-476C-8C94-DD7D5E5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963-0F25-4BC6-8A03-0CEB7FC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074-C33F-4859-9505-959C53581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o-sib.ru/" TargetMode="External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1855800"/>
            <a:ext cx="4757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Радиоканал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2725560"/>
            <a:ext cx="3888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лассификация зд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49876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арактеристики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железобетон, кирпич, дерев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лщина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0-60 см, 20-40 см, 10-20 см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няя площадь пом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-2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-4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40-6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33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алькулятор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3400" y="1836720"/>
            <a:ext cx="76993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170600" cy="482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8720" y="3457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чество связ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4011480"/>
            <a:ext cx="23050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7128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1662120"/>
            <a:ext cx="73454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1628640"/>
          <a:ext cx="8572680" cy="5032440"/>
        </p:xfrm>
        <a:graphic>
          <a:graphicData uri="http://schemas.openxmlformats.org/drawingml/2006/table">
            <a:tbl>
              <a:tblPr/>
              <a:tblGrid>
                <a:gridCol w="5616720"/>
                <a:gridCol w="1512720"/>
                <a:gridCol w="14432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50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±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22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±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±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1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16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6021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дальность связи с оценкой не ниже «4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773360"/>
          <a:ext cx="8572320" cy="3990960"/>
        </p:xfrm>
        <a:graphic>
          <a:graphicData uri="http://schemas.openxmlformats.org/drawingml/2006/table">
            <a:tbl>
              <a:tblPr/>
              <a:tblGrid>
                <a:gridCol w="5832360"/>
                <a:gridCol w="1368360"/>
                <a:gridCol w="137160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4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±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±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23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±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77336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тяженные помещения и коридо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209080" cy="1928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шир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87280" y="2997360"/>
            <a:ext cx="1152720" cy="9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8000" y="1700280"/>
          <a:ext cx="8856720" cy="4537080"/>
        </p:xfrm>
        <a:graphic>
          <a:graphicData uri="http://schemas.openxmlformats.org/drawingml/2006/table">
            <a:tbl>
              <a:tblPr/>
              <a:tblGrid>
                <a:gridCol w="6624720"/>
                <a:gridCol w="1152360"/>
                <a:gridCol w="10796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3,6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5,5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 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13,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ное здание, толщина стен – 4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653080" y="2924280"/>
            <a:ext cx="3240000" cy="1741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0920" y="1968480"/>
            <a:ext cx="500364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0360" y="4432320"/>
            <a:ext cx="4643280" cy="1733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1258920" y="4293720"/>
            <a:ext cx="3456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332000" y="4509720"/>
            <a:ext cx="3240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187280" y="2133720"/>
            <a:ext cx="2880000" cy="2087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19280" y="2133720"/>
            <a:ext cx="1728720" cy="2016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64000" y="3212640"/>
            <a:ext cx="3095640" cy="1584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6011640" y="2997000"/>
            <a:ext cx="2447640" cy="165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855800"/>
            <a:ext cx="807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ость «в поле» и «в здан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комендации по установк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величение да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358640" cy="20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ри вопро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32240" y="1773360"/>
            <a:ext cx="48481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6711840" y="226368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678672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948000" y="1773360"/>
            <a:ext cx="2048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Увеличение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203040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выносных антен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значительно увеличивается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уменьшается влияние источников помех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нет дополнительных источников п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уси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дополнительное увеличение да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простота устан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плоский излучател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3892680" cy="2305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3562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волновой кана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806480" y="2741760"/>
            <a:ext cx="1613160" cy="3639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3857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направленные: коллинеарна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087560" cy="3933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a200mu_dn.gif (12911 bytes)"/>
          <p:cNvPicPr/>
          <p:nvPr/>
        </p:nvPicPr>
        <p:blipFill>
          <a:blip r:embed="rId3"/>
          <a:stretch/>
        </p:blipFill>
        <p:spPr>
          <a:xfrm>
            <a:off x="4282920" y="2646360"/>
            <a:ext cx="3961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95280" y="2421000"/>
          <a:ext cx="8353440" cy="32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421000"/>
                    <a:ext cx="83534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2276640"/>
          <a:ext cx="849780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8497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имер постро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60360" y="41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41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16000" y="38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1405080" y="38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20720" y="373068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620720" y="373068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765440" y="351468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5877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052720" y="36590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13080" y="365868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2773440" y="38037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12720" y="3659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773440" y="36590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168720" y="28782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3892680" y="281628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45640" y="4116960"/>
            <a:ext cx="36000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204000" y="4339800"/>
            <a:ext cx="255240" cy="21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3461400" y="433404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734160" y="5243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89800" y="524340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589800" y="49561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877080" y="49561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877080" y="466740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805440" y="488484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165800" y="23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7021440" y="23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21440" y="20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310520" y="20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526160" y="178740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950160" y="178740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237440" y="1571760"/>
            <a:ext cx="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093080" y="164304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950160" y="1714680"/>
            <a:ext cx="0" cy="14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84480" y="1967760"/>
            <a:ext cx="810360" cy="7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57880" y="2617560"/>
            <a:ext cx="1241280" cy="110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699520" y="261180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40000" y="2161440"/>
            <a:ext cx="18180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71080" y="2207880"/>
            <a:ext cx="256320" cy="28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6829560" y="2195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5726160" y="423540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789440" y="40179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26160" y="4235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7526160" y="48830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165800" y="4738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525800" y="473868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742160" y="52434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742160" y="5243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237440" y="509904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062160" y="27939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2917800" y="2793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17800" y="25066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250668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3781440" y="2722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3637080" y="2722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637080" y="2435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925800" y="2435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269040" y="2744640"/>
            <a:ext cx="1429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6157800" y="265104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013440" y="2651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13440" y="236376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302520" y="236376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8356680" y="47610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8245440" y="4667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8101080" y="46674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101080" y="437940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8389800" y="437976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8572680" y="5697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8461440" y="56037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5603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317080" y="531648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8605800" y="531648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2879640" y="482292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773440" y="4738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2629080" y="473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629080" y="4451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17800" y="4451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394668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13080" y="4019400"/>
            <a:ext cx="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141800" y="3875040"/>
            <a:ext cx="142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213080" y="4378320"/>
            <a:ext cx="505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141800" y="437832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41800" y="409104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429080" y="40910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4068720" y="34434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4068360" y="3154320"/>
            <a:ext cx="889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068720" y="3443400"/>
            <a:ext cx="7956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543480" y="31924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637080" y="3443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37080" y="3405240"/>
            <a:ext cx="1238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7174080" y="247320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07040"/>
            <a:ext cx="1429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476000" y="401940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33440" y="4581360"/>
            <a:ext cx="14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ульт охраны (РР0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rot="17725200">
            <a:off x="3200400" y="4528800"/>
            <a:ext cx="1235160" cy="215640"/>
          </a:xfrm>
          <a:prstGeom prst="rightArrow">
            <a:avLst>
              <a:gd name="adj1" fmla="val 50000"/>
              <a:gd name="adj2" fmla="val 143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 rot="3913800">
            <a:off x="1430640" y="3056400"/>
            <a:ext cx="574560" cy="195480"/>
          </a:xfrm>
          <a:prstGeom prst="rightArrow">
            <a:avLst>
              <a:gd name="adj1" fmla="val 50000"/>
              <a:gd name="adj2" fmla="val 73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198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8640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ллинеар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284720" y="4595760"/>
            <a:ext cx="14436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423540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4211640" y="49546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248112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37600" y="2219400"/>
            <a:ext cx="8856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164360" y="285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31504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566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6877080" y="4954680"/>
            <a:ext cx="7128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472428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46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930920" y="418608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ет автосмены частот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711840" y="228924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1798560"/>
            <a:ext cx="0" cy="490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7867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9343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59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788000" y="371628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тухание в суммат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2924280"/>
            <a:ext cx="2663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2708280"/>
            <a:ext cx="5763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1844640"/>
            <a:ext cx="172404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859" y="44211"/>
                </a:moveTo>
                <a:lnTo>
                  <a:pt x="22555" y="5201"/>
                </a:lnTo>
              </a:path>
              <a:path w="21600" h="21600">
                <a:moveTo>
                  <a:pt x="22555" y="0"/>
                </a:moveTo>
                <a:lnTo>
                  <a:pt x="2255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 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м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77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788000" y="411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11280" y="1773000"/>
            <a:ext cx="718560" cy="1584360"/>
            <a:chOff x="611280" y="1773000"/>
            <a:chExt cx="718560" cy="1584360"/>
          </a:xfrm>
        </p:grpSpPr>
        <p:sp>
          <p:nvSpPr>
            <p:cNvPr id="484" name=""/>
            <p:cNvSpPr/>
            <p:nvPr/>
          </p:nvSpPr>
          <p:spPr>
            <a:xfrm flipV="1">
              <a:off x="97164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12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9694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спользование усилителе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2571840"/>
            <a:ext cx="540072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4714920" y="3005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714920" y="336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4714920" y="300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362560" y="4086360"/>
            <a:ext cx="14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788000" y="4446720"/>
            <a:ext cx="574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88000" y="408636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3365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4446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299280" y="3581280"/>
            <a:ext cx="50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012000" y="401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4013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012000" y="3365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012000" y="3726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804000" y="3870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3870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443640" y="3870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6299280" y="3726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299280" y="4013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3274920" y="3654360"/>
            <a:ext cx="50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74920" y="3941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419280" y="394164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3635280" y="3797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3635280" y="4086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2266920" y="4734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39640" y="3940200"/>
            <a:ext cx="273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2556000" y="3941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843280" y="5022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90920" y="4230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3490920" y="502272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88000" y="4157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3797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922560" y="3365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3922560" y="3365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40863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922560" y="4086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922560" y="4446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7308720" y="306864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антен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3476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Р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30200" y="516420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56689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ектор входного сиг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130560" y="242892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2284560"/>
            <a:ext cx="252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2698920" y="19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148000" y="23558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5724360" y="174312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илитель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427640" y="473220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57405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алошумящий усил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9280" y="1773360"/>
          <a:ext cx="8642520" cy="4160880"/>
        </p:xfrm>
        <a:graphic>
          <a:graphicData uri="http://schemas.openxmlformats.org/drawingml/2006/table">
            <a:tbl>
              <a:tblPr/>
              <a:tblGrid>
                <a:gridCol w="1728720"/>
                <a:gridCol w="1008360"/>
                <a:gridCol w="1439640"/>
                <a:gridCol w="1440000"/>
                <a:gridCol w="1441440"/>
                <a:gridCol w="15843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рудование   Р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39640" y="60120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веденные в таблице цифры являются ориентировочными. Реальная дальность может быть несколько ниже или выше в зависимости от рельефа местности, уровня внешних радиошумов и высоты установки антенн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630440"/>
            <a:ext cx="864072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следует устанавливать максимально высоко, чтобы обеспечить прямую видимость между ними, но не ниже чем на высоте 1 м над поверхностью крыши. При большой высоте установки следует обеспечить заземление (использовать металлическую мачту) в целях обеспечения молниезащи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бель должен обладать малым затуханием, при этом его длина должна быть минимальна возможной. Следует использовать только кабели с волновым сопротивлением 50 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1630440"/>
            <a:ext cx="864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должны быть установлены с одинаковой поляризацией причем обязательно вертикальной в случае если в радиосистеме используются коллинеарные антен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илитель следует устанавливать по возможности ближе к антенне, т.е. отрезок кабеля между антенной и усилителем должен быть минимальной дл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ич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ой и сумматором, если последний исполь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ачеств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мматора/делителя допустимо использовать широкополосный телевизионный разветвите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08000" y="1951200"/>
          <a:ext cx="8820000" cy="3881160"/>
        </p:xfrm>
        <a:graphic>
          <a:graphicData uri="http://schemas.openxmlformats.org/drawingml/2006/table">
            <a:tbl>
              <a:tblPr/>
              <a:tblGrid>
                <a:gridCol w="2374920"/>
                <a:gridCol w="1865160"/>
                <a:gridCol w="2205000"/>
                <a:gridCol w="2374920"/>
              </a:tblGrid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звание анте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н-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Лира-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-200 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из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Альтони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Драй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Anli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иаграмма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ыигрыш в расстоянии (ра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radiolab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озн: (495)917-5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пт: (495)73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50920" y="1700280"/>
          <a:ext cx="8642160" cy="4897440"/>
        </p:xfrm>
        <a:graphic>
          <a:graphicData uri="http://schemas.openxmlformats.org/drawingml/2006/table">
            <a:tbl>
              <a:tblPr/>
              <a:tblGrid>
                <a:gridCol w="3620880"/>
                <a:gridCol w="502128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итель «Модус-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жи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направленный, полудуплекс, автоматическое переключ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час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2 – 436 МГц (есть версия 868 МГ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ение приемного тра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д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ходн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 40 или 100 мВт (регулируется переключател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есть систем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яжение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-15 В, нестабилиз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рабочих температу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… +3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-40… +5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для уличной верс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hlinkClick r:id="rId2"/>
                        </a:rPr>
                        <a:t>www.radio-sib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фон: (3822) 21-12-33 , г. 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989000"/>
          <a:ext cx="7991280" cy="4392720"/>
        </p:xfrm>
        <a:graphic>
          <a:graphicData uri="http://schemas.openxmlformats.org/drawingml/2006/table">
            <a:tbl>
              <a:tblPr/>
              <a:tblGrid>
                <a:gridCol w="2813040"/>
                <a:gridCol w="2514600"/>
                <a:gridCol w="2663640"/>
              </a:tblGrid>
              <a:tr h="88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1989000"/>
          <a:ext cx="7777080" cy="4478400"/>
        </p:xfrm>
        <a:graphic>
          <a:graphicData uri="http://schemas.openxmlformats.org/drawingml/2006/table">
            <a:tbl>
              <a:tblPr/>
              <a:tblGrid>
                <a:gridCol w="2789280"/>
                <a:gridCol w="2432160"/>
                <a:gridCol w="2555640"/>
              </a:tblGrid>
              <a:tr h="80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тчик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6048360" cy="459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747960"/>
            <a:ext cx="21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тух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раж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340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мир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5185080" cy="3409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35280" y="4941720"/>
            <a:ext cx="48974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138560" y="2381400"/>
            <a:ext cx="4610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тухани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мир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401840" y="376380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706920" y="2349360"/>
            <a:ext cx="406440" cy="3313080"/>
          </a:xfrm>
          <a:custGeom>
            <a:avLst/>
            <a:gdLst>
              <a:gd name="textAreaLeft" fmla="*/ 259560 w 406440"/>
              <a:gd name="textAreaRight" fmla="*/ 406800 w 4064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оект «на бумаг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222800" cy="4078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91400">
            <a:off x="2529000" y="4071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80000" y="4797000"/>
            <a:ext cx="122364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157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rot="191400">
            <a:off x="1187280" y="4076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9392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rot="191400">
            <a:off x="-180720" y="4076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rot="191400">
            <a:off x="2529000" y="1839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925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91400">
            <a:off x="1187280" y="1844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9392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 rot="191400">
            <a:off x="-180720" y="1844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4078440"/>
            <a:ext cx="432000" cy="358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113440" y="2852640"/>
            <a:ext cx="399564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извещ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яем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РРОП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autoRev="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6:21:09Z</dcterms:created>
  <dc:creator>pavlic</dc:creator>
  <dc:description/>
  <dc:language>en-US</dc:language>
  <cp:lastModifiedBy>Levtchouk</cp:lastModifiedBy>
  <dcterms:modified xsi:type="dcterms:W3CDTF">2007-07-05T10:26:10Z</dcterms:modified>
  <cp:revision>112</cp:revision>
  <dc:subject/>
  <dc:title>Слайд 1</dc:title>
</cp:coreProperties>
</file>